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2E5C-223F-4707-B926-070B04DF6530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BAD7-2F6C-4DA8-86D1-32CBF02961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5EAE-1083-466B-966F-1206D507FF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F497-22F5-423C-A0FC-41486300E0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1A14-5A0E-4D16-A13C-905AA51677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6E3B-9803-4270-8ACD-4B0C74DFDA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26B3-CDC5-4F53-9A04-AC3EA03481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227F-F95F-4D2C-8BC3-5357BA4818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A19E-8948-422E-AD1A-A302D41567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BFA2-EE33-4875-8617-0678A347F7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FEB1-E73F-46E4-9613-4F4BFABD6F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651B-E257-423E-956F-92CA2A5BD6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F05E-A399-44BE-8AF8-A677594706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A7B4-970B-4A59-B905-95A2DE4164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D080-45DE-4503-9B85-F4294986E2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C5D8-BC57-4240-8E8B-850F0E30AB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AD64-F4DE-4C73-A5C0-7A09D498E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10D8-C2F3-4B8A-86F6-6F17FA75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ED1F8-5182-42E6-B897-9C41C0D0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AE700-6E76-48A6-94EC-9B66262C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A2997-7FC3-4B84-8DD4-1EC830D9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D8E425-157A-468D-9D79-35AF2B86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16AAC-A46C-4A1B-9AD1-D6C8BC4D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8AB66D-748F-47DA-997C-CC791366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C1ACAD-7E30-4DA0-8EFF-4F4AE169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934E7-38C3-40E0-A914-C716F4BA9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8B1BD-9C6E-4E19-AA67-7EC782637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90B535-0AE1-449B-8B5B-1E60B0971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95A1-73E7-4348-9C92-ED16589A0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DB247E-800C-491C-B1CB-DE569B11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8D5AAD-2E71-4130-90E9-FC983308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15CF5-C6E9-46C8-AC57-A769E2BE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754582-F94A-43A1-A6DF-D1631B21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2E766-88AA-495C-929E-FFCE7446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2D295-0049-4A49-A677-AC82D874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90D98D-39A5-43AD-BE81-0001BECA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6BDD2-65BB-435E-9CE1-B159C59F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5B099B-B227-498F-A065-BBB67002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B6745-14FE-43B3-BF67-25D2E963F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736D-60DF-4F2B-BF37-2FAFA563F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A3C56-126D-4E5B-B002-0860FA11C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EB897-9924-4509-9B66-9DC2118C6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D5B01-C4C7-4A00-9E7C-C75B42E3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2DFF7-7C54-4753-AF28-01A6AB96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42225-E718-4248-B850-043455C6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2974C-A49F-4F71-8C4B-76B35843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880C1-1B44-443C-8047-7DC5106C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161DA-94DE-451C-9AC6-ED5D706A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B9971-802B-4AD2-9D45-7B2CE9EF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30C71-2B16-4EC1-9A42-ECEBD1F2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5009-312A-4983-98CE-DA197AD93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70FB0-F0D3-4363-BCCF-DBFD4520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ADFEE-6BBC-438D-83D6-4DB172F79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17417-2059-43DC-8569-0A7536D8B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C05E-8256-4658-8203-9CE56156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0DF8-4522-44D5-9DB4-72659285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1CAB-E25C-49C9-8987-824DD259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50D8-7EC9-4E97-9339-B63CA8C1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1511-9A35-4B91-AFD7-D8C019C1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8715-BE5C-4128-82A7-A5DEA708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46BC-5ACF-4D42-B23E-ED943D23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370C-9E47-4D54-A21A-CEBEA1F7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9B87-2F73-4307-9ED4-744BB196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E6A2-08A0-4CDC-B3D4-1B9E7AB1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24B5-FC46-4FD8-BB42-B8A5661C3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3B71-BC4C-4BA5-8748-DE11F67A5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69E0E-A7D8-4646-BBD9-33E3E0AC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0B39A-F033-4FBA-BFE7-8BCD03F0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E0EC3-E555-4F98-AA6D-8FC3DFDD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ED0B6-5AF4-4412-8DFF-3137F83C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66E7C-E14C-482E-9BEE-9B132D9F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0395-A13B-4BCE-80BD-361B9B2D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0C28F-7B09-4AF6-A620-E8FB1EEC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1CFB6-240A-4D61-8DBC-F0A90222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6ABF9-C4F1-4551-BD99-2D37F0D8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36C0F-5883-410B-9E16-DD92B420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9DC71-54E1-4461-945A-41F76055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452A7-1596-453D-9E3B-89AD7A6EE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23068-F8D6-4583-B5F6-3DC2378EA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54AB6-2053-4C13-AE12-2FDB7E1D2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2D880-0F39-41B9-9C92-9B548B62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8AABF-D739-43EF-8B89-7EC2BD85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4BF0-0524-47B7-BAD9-0B4A7DF2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0D11D-F752-4751-96CA-03244C37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FEE00-1C94-4DC0-A2AB-1FBDACFF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A706D-24D7-4E31-AF5F-7BD2B06E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C430F-ABFE-40DB-A78A-00E89545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51CF5-A279-4DA8-9D35-880ED6C2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AD645-72BD-4F5B-8F5D-C833B724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F8E7A-2BF5-496C-88F9-3D721DF3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DAD57-017B-44DA-82E2-7C37123AD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0FEA1-FA33-4E34-B054-A90EC530F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21A6B-30FD-460E-AA62-63C73E310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2B59-401C-465E-84A7-B34F3353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F29D4-407C-4044-8623-53207911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DC5BF-C5B0-4DDC-805E-619265C1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0BA86-F102-427E-BCCA-752AA343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B30F7-4D52-4866-9E2A-94752B27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30D4D-C24C-460D-A006-B062A232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14B4F-8413-4CD3-8AE5-C929C113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7FB3B-269E-443A-8768-2D02E727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25B1B-D009-4A0D-AE70-F636D6A6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BE267-05E7-436D-A884-199F33DD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2A7BB-98A0-4ACC-A64F-E315A841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BD96-9477-4323-A8D8-9F131957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AB5EB-782F-475D-A913-A2C9A26FB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98694-0250-493D-A031-F6A5AAF49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292CE-04FF-4079-A7AC-1C63CFCC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74A41-BC76-4EFF-B959-EECCACA4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A79F9-E4E0-4507-B06A-0EEDD4FB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22D5F-ABAD-4EB3-8172-5B85040C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20F05-B144-40CC-85C2-D2CE03E2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AA98B-F3BF-4DA0-9EC1-E5EA70A2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83603-4D5B-4BD7-B589-C1EDDF40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FE07D-D2C1-40F7-9744-700B0AD5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4200-C7A8-4B86-985C-93764D1E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0C4F8-D58A-40E3-B038-9C1988B6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4F3D8-E197-4D1D-863E-70042DB80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0D9C3-786E-4673-BB7A-02D42286A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C0A94-67D1-4DFB-93A8-7DEE1F48D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6DF96-2896-46B6-B517-EE853885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BFC41-72F1-4F6C-98A9-4C06D856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83149-9D0B-4A6A-8C14-8E123C65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A290F-4C63-4327-95A4-EBB031E0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1983F-04D4-49B6-B204-B8C411B8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78A04-596D-46E5-85D8-9D39D5E1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8720-F21A-475D-9AB9-0EC89511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AB53F-DC08-4729-8018-FB58BC9C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B1B0F-F338-42F4-B175-56889C10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F4A9D-1E6C-42ED-99D1-4EEC1089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31D70-93A7-4E26-89E5-F2D270BE1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02AED-42C2-4C7B-BE5F-7812C406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E1599-3892-46C8-9E93-E014E429C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FCE1D-6D2D-4BCE-A1B1-818EF4E8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57D92-D833-42BC-A29C-FB5C45C8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F61FA-AB21-48C5-8FD7-81B9D528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832B8-ED2A-4545-AEEB-0F9EF3B0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9495-4CDD-4FB9-A575-4D17FC01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8043B-7A3A-4DCA-ACBD-3F20105E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08624-9895-4FBF-93A6-8F087F38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32A02-9314-48F9-BA4A-D5C1C113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A1E3C-EF96-4630-B874-0255B086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8E24F-64DD-4B61-AA52-87B338CC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DB9EE-6FD8-45BD-B272-E52F0CD54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807BC-FD71-4852-9EC4-56F73AD03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67110-E7EB-47E8-9FC0-E5FD7CDBC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C9A4CA-C51C-47A5-9542-75D45E97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2F498-561F-4BFD-AA10-7EC1C5DC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F5F9-DE81-4EB2-8348-D7F9EA3321F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D4FCAE5-E9A9-489E-B2BD-A47C28248EAC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3EE1-0946-425E-B964-34D529F0BB5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500394E-6708-4ED1-B475-1512A8CCCDB6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79F3-CBC8-4D87-9E3F-6E38E539684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9142882-4285-421A-8ADA-A6D147CDA460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DF37-7FC2-454F-8209-C74D7D08716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49FDABD-E5D7-404F-A256-F99E270FF04C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5A4E-AF9C-4ED2-87D9-AD13167EA02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EBD1C82-EE77-4124-B748-1549927880B4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91D5-E6D6-4E5A-BAC5-BEC6D78ABB7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CA1F76C-9A6B-4426-A7F0-17088CD6F1E7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2109-D82E-4A37-B4D0-B91AC9EAFA9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193ADFF-C877-4054-8736-6C503965614F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A422-B9A8-4B09-9455-B1CCCC2926D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4C3B4EB-7E9B-4E1E-B8F7-20A44DD4EAFA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C8C3-06E6-4952-A499-84D3C043C29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9569327-7DA8-4733-B655-9A9334ECB147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3919-9126-4C56-A19E-A8DD98187D5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F0F3D68-3FA3-4158-A7D5-F522347E4CE2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73B0-495D-4950-8454-5E37493BCCD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6BD25B4-2BAC-443E-BD1B-AA689141BA00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5"/>
          <p:cNvSpPr/>
          <p:nvPr/>
        </p:nvSpPr>
        <p:spPr>
          <a:xfrm>
            <a:off x="214200" y="3789360"/>
            <a:ext cx="87156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9" name="Picture 6" descr=""/>
          <p:cNvPicPr/>
          <p:nvPr/>
        </p:nvPicPr>
        <p:blipFill>
          <a:blip r:embed="rId2"/>
          <a:stretch/>
        </p:blipFill>
        <p:spPr>
          <a:xfrm>
            <a:off x="0" y="-2844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1476360" y="2495520"/>
            <a:ext cx="56577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RUSSIAN BANKING SYSTEM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N CURRENT ENVIRON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67200" y="4221000"/>
            <a:ext cx="30096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Oleg M. Preks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Vice-Presid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ssociation of Russian Bank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8 June 200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Monte Carl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979280" y="54936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ssian banking system still falls behind despite the rapid growth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A002-459F-4452-A2D4-EE8F2FA8DC30}" type="slidenum">
              <a:rPr b="0" lang="en-US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7" name="Диаграмма 3" descr=""/>
          <p:cNvPicPr/>
          <p:nvPr/>
        </p:nvPicPr>
        <p:blipFill>
          <a:blip r:embed="rId2"/>
          <a:stretch/>
        </p:blipFill>
        <p:spPr>
          <a:xfrm>
            <a:off x="142920" y="1557360"/>
            <a:ext cx="5143320" cy="4443480"/>
          </a:xfrm>
          <a:prstGeom prst="rect">
            <a:avLst/>
          </a:prstGeom>
          <a:ln w="0">
            <a:noFill/>
          </a:ln>
        </p:spPr>
      </p:pic>
      <p:pic>
        <p:nvPicPr>
          <p:cNvPr id="498" name="Диаграмма 4" descr=""/>
          <p:cNvPicPr/>
          <p:nvPr/>
        </p:nvPicPr>
        <p:blipFill>
          <a:blip r:embed="rId3"/>
          <a:stretch/>
        </p:blipFill>
        <p:spPr>
          <a:xfrm>
            <a:off x="5429160" y="1557360"/>
            <a:ext cx="3571920" cy="4443480"/>
          </a:xfrm>
          <a:prstGeom prst="rect">
            <a:avLst/>
          </a:prstGeom>
          <a:ln w="0">
            <a:noFill/>
          </a:ln>
        </p:spPr>
      </p:pic>
      <p:sp>
        <p:nvSpPr>
          <p:cNvPr id="499" name="TextBox 5"/>
          <p:cNvSpPr/>
          <p:nvPr/>
        </p:nvSpPr>
        <p:spPr>
          <a:xfrm>
            <a:off x="142920" y="6005520"/>
            <a:ext cx="51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st growing assets means that aggressive lending policy &amp; poor risk management may be in place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growth of past due loans will become a problem for banks’ equity in coming month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8FFB-AF32-4058-BFD6-58166F326F2A}" type="slidenum">
              <a:rPr b="0" lang="en-US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2" name="Диаграмма 3" descr=""/>
          <p:cNvPicPr/>
          <p:nvPr/>
        </p:nvPicPr>
        <p:blipFill>
          <a:blip r:embed="rId2"/>
          <a:stretch/>
        </p:blipFill>
        <p:spPr>
          <a:xfrm>
            <a:off x="-66600" y="0"/>
            <a:ext cx="921708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scow Still Well Behind Other Financial Cent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1A55206-8992-4705-B4F8-C77C56D9365B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5" name="Содержимое 4" descr=""/>
          <p:cNvPicPr/>
          <p:nvPr/>
        </p:nvPicPr>
        <p:blipFill>
          <a:blip r:embed="rId2"/>
          <a:stretch/>
        </p:blipFill>
        <p:spPr>
          <a:xfrm>
            <a:off x="0" y="150012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506" name="Содержимое 4" descr=""/>
          <p:cNvPicPr/>
          <p:nvPr/>
        </p:nvPicPr>
        <p:blipFill>
          <a:blip r:embed="rId3"/>
          <a:stretch/>
        </p:blipFill>
        <p:spPr>
          <a:xfrm>
            <a:off x="0" y="4357800"/>
            <a:ext cx="9144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D756217-2B9F-4CB7-BF65-F1987537D1E0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8" name="Picture 2" descr="mosmap5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692360" y="1628640"/>
            <a:ext cx="6264360" cy="504828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ut Stands for an International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nancial Center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the New Global Environ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Text Box 26"/>
          <p:cNvSpPr/>
          <p:nvPr/>
        </p:nvSpPr>
        <p:spPr>
          <a:xfrm>
            <a:off x="250920" y="4437000"/>
            <a:ext cx="4248000" cy="9352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is the third city in the world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y its budget performanc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$ 40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ln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 Box 27"/>
          <p:cNvSpPr/>
          <p:nvPr/>
        </p:nvSpPr>
        <p:spPr>
          <a:xfrm>
            <a:off x="4716360" y="4437000"/>
            <a:ext cx="4248360" cy="935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living costs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luding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dging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re the highest among world capital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 Box 28"/>
          <p:cNvSpPr/>
          <p:nvPr/>
        </p:nvSpPr>
        <p:spPr>
          <a:xfrm>
            <a:off x="250920" y="5516640"/>
            <a:ext cx="4248000" cy="10810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is in Top-5 financial centers to become more important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short term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 Box 29"/>
          <p:cNvSpPr/>
          <p:nvPr/>
        </p:nvSpPr>
        <p:spPr>
          <a:xfrm>
            <a:off x="186840" y="6583320"/>
            <a:ext cx="5374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Источники: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ant Thornton 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Z/Yen Group,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Mercer Human Resource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onsulting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 Box 30"/>
          <p:cNvSpPr/>
          <p:nvPr/>
        </p:nvSpPr>
        <p:spPr>
          <a:xfrm>
            <a:off x="4716360" y="5516640"/>
            <a:ext cx="4248360" cy="1081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ranks 5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national financial center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5" name="Object 4" descr=""/>
          <p:cNvPicPr/>
          <p:nvPr/>
        </p:nvPicPr>
        <p:blipFill>
          <a:blip r:embed="rId3"/>
          <a:stretch/>
        </p:blipFill>
        <p:spPr>
          <a:xfrm>
            <a:off x="0" y="1571760"/>
            <a:ext cx="914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339023D-00B9-4773-88A4-BE455D2E0F76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Steps by the State to Facilitate IFC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8" name="Pyr4"/>
          <p:cNvGrpSpPr/>
          <p:nvPr/>
        </p:nvGrpSpPr>
        <p:grpSpPr>
          <a:xfrm>
            <a:off x="189000" y="4834080"/>
            <a:ext cx="8759880" cy="1920600"/>
            <a:chOff x="189000" y="4834080"/>
            <a:chExt cx="8759880" cy="1920600"/>
          </a:xfrm>
        </p:grpSpPr>
        <p:pic>
          <p:nvPicPr>
            <p:cNvPr id="519" name="Pyr4" descr=""/>
            <p:cNvPicPr/>
            <p:nvPr/>
          </p:nvPicPr>
          <p:blipFill>
            <a:blip r:embed="rId2"/>
            <a:stretch/>
          </p:blipFill>
          <p:spPr>
            <a:xfrm>
              <a:off x="189000" y="4834080"/>
              <a:ext cx="8759880" cy="19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1565280" y="4913280"/>
              <a:ext cx="561168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1" name="Pyr3"/>
          <p:cNvGrpSpPr/>
          <p:nvPr/>
        </p:nvGrpSpPr>
        <p:grpSpPr>
          <a:xfrm>
            <a:off x="1487520" y="3249720"/>
            <a:ext cx="6162480" cy="1560240"/>
            <a:chOff x="1487520" y="3249720"/>
            <a:chExt cx="6162480" cy="1560240"/>
          </a:xfrm>
        </p:grpSpPr>
        <p:pic>
          <p:nvPicPr>
            <p:cNvPr id="522" name="Pyr3" descr=""/>
            <p:cNvPicPr/>
            <p:nvPr/>
          </p:nvPicPr>
          <p:blipFill>
            <a:blip r:embed="rId3"/>
            <a:stretch/>
          </p:blipFill>
          <p:spPr>
            <a:xfrm>
              <a:off x="1487520" y="3249720"/>
              <a:ext cx="6162480" cy="15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3029040" y="3317760"/>
              <a:ext cx="30859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4" name="Text Box 20"/>
          <p:cNvGrpSpPr/>
          <p:nvPr/>
        </p:nvGrpSpPr>
        <p:grpSpPr>
          <a:xfrm>
            <a:off x="1427040" y="3121200"/>
            <a:ext cx="6558120" cy="1658880"/>
            <a:chOff x="1427040" y="3121200"/>
            <a:chExt cx="6558120" cy="1658880"/>
          </a:xfrm>
        </p:grpSpPr>
        <p:pic>
          <p:nvPicPr>
            <p:cNvPr id="525" name="Text Box 20" descr=""/>
            <p:cNvPicPr/>
            <p:nvPr/>
          </p:nvPicPr>
          <p:blipFill>
            <a:blip r:embed="rId4"/>
            <a:stretch/>
          </p:blipFill>
          <p:spPr>
            <a:xfrm>
              <a:off x="1427040" y="3121200"/>
              <a:ext cx="655812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1476360" y="3213000"/>
              <a:ext cx="6141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RF Government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ditioning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ositive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expectations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ith the professional communit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7" name="Pyr2"/>
          <p:cNvGrpSpPr/>
          <p:nvPr/>
        </p:nvGrpSpPr>
        <p:grpSpPr>
          <a:xfrm>
            <a:off x="2567160" y="1822320"/>
            <a:ext cx="4005000" cy="1401840"/>
            <a:chOff x="2567160" y="1822320"/>
            <a:chExt cx="4005000" cy="1401840"/>
          </a:xfrm>
        </p:grpSpPr>
        <p:pic>
          <p:nvPicPr>
            <p:cNvPr id="528" name="Pyr2" descr=""/>
            <p:cNvPicPr/>
            <p:nvPr/>
          </p:nvPicPr>
          <p:blipFill>
            <a:blip r:embed="rId5"/>
            <a:stretch/>
          </p:blipFill>
          <p:spPr>
            <a:xfrm>
              <a:off x="2567160" y="1822320"/>
              <a:ext cx="40050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3668760" y="1887480"/>
              <a:ext cx="18050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0" name="Text Box 21"/>
          <p:cNvSpPr/>
          <p:nvPr/>
        </p:nvSpPr>
        <p:spPr>
          <a:xfrm>
            <a:off x="2806560" y="2055960"/>
            <a:ext cx="36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RF Presid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rective on develop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IFC in Russi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Text Box 24"/>
          <p:cNvSpPr/>
          <p:nvPr/>
        </p:nvSpPr>
        <p:spPr>
          <a:xfrm>
            <a:off x="793800" y="4862520"/>
            <a:ext cx="756108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inistry of economic develop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pt of developing an IFC in Russia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ailed action plan of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ing an IFC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5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ock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ssia Takes Substantial Measure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 Support the Econom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3" name="Содержимое 4" descr=""/>
          <p:cNvPicPr/>
          <p:nvPr/>
        </p:nvPicPr>
        <p:blipFill>
          <a:blip r:embed="rId2"/>
          <a:stretch/>
        </p:blipFill>
        <p:spPr>
          <a:xfrm>
            <a:off x="0" y="1643040"/>
            <a:ext cx="4572000" cy="5214960"/>
          </a:xfrm>
          <a:prstGeom prst="rect">
            <a:avLst/>
          </a:prstGeom>
          <a:ln w="0">
            <a:noFill/>
          </a:ln>
        </p:spPr>
      </p:pic>
      <p:sp>
        <p:nvSpPr>
          <p:cNvPr id="464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EF7FA74-1F21-403B-9F83-090B82CE428F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5" name="Содержимое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4572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udget Deficit &amp; Government Deb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BB75671-FBA5-41DE-BD3A-E91134D78BE5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Содержимое 4" descr=""/>
          <p:cNvPicPr/>
          <p:nvPr/>
        </p:nvPicPr>
        <p:blipFill>
          <a:blip r:embed="rId2"/>
          <a:stretch/>
        </p:blipFill>
        <p:spPr>
          <a:xfrm>
            <a:off x="0" y="1500120"/>
            <a:ext cx="5572080" cy="4572000"/>
          </a:xfrm>
          <a:prstGeom prst="rect">
            <a:avLst/>
          </a:prstGeom>
          <a:ln w="0">
            <a:noFill/>
          </a:ln>
        </p:spPr>
      </p:pic>
      <p:pic>
        <p:nvPicPr>
          <p:cNvPr id="469" name="Содержимое 4" descr=""/>
          <p:cNvPicPr/>
          <p:nvPr/>
        </p:nvPicPr>
        <p:blipFill>
          <a:blip r:embed="rId3"/>
          <a:stretch/>
        </p:blipFill>
        <p:spPr>
          <a:xfrm>
            <a:off x="5429160" y="1500120"/>
            <a:ext cx="3714840" cy="450072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6"/>
          <p:cNvSpPr/>
          <p:nvPr/>
        </p:nvSpPr>
        <p:spPr>
          <a:xfrm>
            <a:off x="0" y="6140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nlike the other countries Russia is going not to sell it’s debt to the market, but to cover it from international reserv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employment Rate,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%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f Labor For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8FE7AA2-D43F-417B-B0B3-EC817318C2BA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Содержимое 4" descr=""/>
          <p:cNvPicPr/>
          <p:nvPr/>
        </p:nvPicPr>
        <p:blipFill>
          <a:blip r:embed="rId2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ussia Boosts Target Rate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ile the Others Cut I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A59FF18-BD5C-4E2C-A4A0-FE56CA40EF2D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6" name="Диаграмма 4" descr=""/>
          <p:cNvPicPr/>
          <p:nvPr/>
        </p:nvPicPr>
        <p:blipFill>
          <a:blip r:embed="rId2"/>
          <a:stretch/>
        </p:blipFill>
        <p:spPr>
          <a:xfrm>
            <a:off x="5857920" y="1643040"/>
            <a:ext cx="3286080" cy="4429080"/>
          </a:xfrm>
          <a:prstGeom prst="rect">
            <a:avLst/>
          </a:prstGeom>
          <a:ln w="0">
            <a:noFill/>
          </a:ln>
        </p:spPr>
      </p:pic>
      <p:pic>
        <p:nvPicPr>
          <p:cNvPr id="477" name="Содержимое 4" descr=""/>
          <p:cNvPicPr/>
          <p:nvPr/>
        </p:nvPicPr>
        <p:blipFill>
          <a:blip r:embed="rId3"/>
          <a:stretch/>
        </p:blipFill>
        <p:spPr>
          <a:xfrm>
            <a:off x="0" y="1600200"/>
            <a:ext cx="8543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financing Cos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9" name="Содержимое 4" descr=""/>
          <p:cNvPicPr/>
          <p:nvPr/>
        </p:nvPicPr>
        <p:blipFill>
          <a:blip r:embed="rId2"/>
          <a:stretch/>
        </p:blipFill>
        <p:spPr>
          <a:xfrm>
            <a:off x="0" y="1571760"/>
            <a:ext cx="8929800" cy="4429080"/>
          </a:xfrm>
          <a:prstGeom prst="rect">
            <a:avLst/>
          </a:prstGeom>
          <a:ln w="0">
            <a:noFill/>
          </a:ln>
        </p:spPr>
      </p:pic>
      <p:sp>
        <p:nvSpPr>
          <p:cNvPr id="480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FBE17AC-3EF2-4EAA-9D69-B2320CAFB1D0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Заголовок 1"/>
          <p:cNvSpPr/>
          <p:nvPr/>
        </p:nvSpPr>
        <p:spPr>
          <a:xfrm>
            <a:off x="285840" y="5994360"/>
            <a:ext cx="83581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countries keep the real target rate in negative zone in order to stimulate the econom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Содержимое 5" descr=""/>
          <p:cNvPicPr/>
          <p:nvPr/>
        </p:nvPicPr>
        <p:blipFill>
          <a:blip r:embed="rId2"/>
          <a:stretch/>
        </p:blipFill>
        <p:spPr>
          <a:xfrm>
            <a:off x="142920" y="1571760"/>
            <a:ext cx="5214960" cy="4143240"/>
          </a:xfrm>
          <a:prstGeom prst="rect">
            <a:avLst/>
          </a:prstGeom>
          <a:ln w="0">
            <a:noFill/>
          </a:ln>
        </p:spPr>
      </p:pic>
      <p:sp>
        <p:nvSpPr>
          <p:cNvPr id="483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D3C88EA-1453-42FF-8A5D-A7FE4C122D23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5424480" y="1643040"/>
          <a:ext cx="3571920" cy="3541680"/>
        </p:xfrm>
        <a:graphic>
          <a:graphicData uri="http://schemas.openxmlformats.org/drawingml/2006/table">
            <a:tbl>
              <a:tblPr/>
              <a:tblGrid>
                <a:gridCol w="1638360"/>
                <a:gridCol w="1933560"/>
              </a:tblGrid>
              <a:tr h="590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 activity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n. Rub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banks October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 350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erbank Octo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 94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bank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- 11 (</a:t>
                      </a: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net outflow</a:t>
                      </a: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erbank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+ 11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TB 2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+ 9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85" name="TextBox 9"/>
          <p:cNvSpPr/>
          <p:nvPr/>
        </p:nvSpPr>
        <p:spPr>
          <a:xfrm>
            <a:off x="5669640" y="5202360"/>
            <a:ext cx="337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olume of households’ deposit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s of 1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.01.2009 –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$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185</a:t>
            </a:r>
            <a:r>
              <a:rPr b="1" lang="ru-RU" sz="1600" spc="-1" strike="noStrike">
                <a:solidFill>
                  <a:srgbClr val="262673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bln.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ivate Deposit Activ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Прямоугольник 11"/>
          <p:cNvSpPr/>
          <p:nvPr/>
        </p:nvSpPr>
        <p:spPr>
          <a:xfrm>
            <a:off x="1285920" y="585792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anic with deposit withdrawal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s been stopp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ble Exchange Rates Dynam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588CF3F-2E9F-4622-A8A7-11D467B56484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0" name="Диаграмма 7" descr=""/>
          <p:cNvPicPr/>
          <p:nvPr/>
        </p:nvPicPr>
        <p:blipFill>
          <a:blip r:embed="rId2"/>
          <a:stretch/>
        </p:blipFill>
        <p:spPr>
          <a:xfrm>
            <a:off x="-6480" y="1494000"/>
            <a:ext cx="5621400" cy="5010120"/>
          </a:xfrm>
          <a:prstGeom prst="rect">
            <a:avLst/>
          </a:prstGeom>
          <a:ln w="0">
            <a:noFill/>
          </a:ln>
        </p:spPr>
      </p:pic>
      <p:sp>
        <p:nvSpPr>
          <p:cNvPr id="491" name="Заголовок 1"/>
          <p:cNvSpPr/>
          <p:nvPr/>
        </p:nvSpPr>
        <p:spPr>
          <a:xfrm>
            <a:off x="5643720" y="2928960"/>
            <a:ext cx="34290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Bank of Russia managed to stabilize the ruble, announcing the new target USD-Euro basket rate = 40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in Lines to Fight the Cri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2A14694-7372-44F9-977A-8BD916C280A7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4" name="Схема 5" descr=""/>
          <p:cNvPicPr/>
          <p:nvPr/>
        </p:nvPicPr>
        <p:blipFill>
          <a:blip r:embed="rId2"/>
          <a:stretch/>
        </p:blipFill>
        <p:spPr>
          <a:xfrm>
            <a:off x="1725480" y="1504800"/>
            <a:ext cx="596124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7:11:56Z</dcterms:created>
  <dc:creator>Serge</dc:creator>
  <dc:description/>
  <dc:language>en-US</dc:language>
  <cp:lastModifiedBy>preksin_om</cp:lastModifiedBy>
  <dcterms:modified xsi:type="dcterms:W3CDTF">2009-06-18T06:27:33Z</dcterms:modified>
  <cp:revision>1205</cp:revision>
  <dc:subject/>
  <dc:title>Расширение кредитования – важнейший фактор экономического роста России </dc:title>
</cp:coreProperties>
</file>